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</p:sldIdLst>
  <p:sldSz cx="9144000" cy="6858000"/>
  <p:notesSz cx="6761163" cy="9942513"/>
</p:presentation>
</file>

<file path=ppt/commentAuthors.xml><?xml version="1.0" encoding="utf-8"?>
<p:cmAuthorLst xmlns:p="http://schemas.openxmlformats.org/presentationml/2006/main">
  <p:cmAuthor id="0" name="Hoeschle-Zeledon" initials="H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presProps" Target="presProps.xml"/><Relationship Id="rId35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16-06-23T10:39:42.336000000" idx="1">
    <p:pos x="2850" y="1612"/>
    <p:text>Has the research also evolved? Yes. 
I would add a bullet on research evolution.  From jumpstarts to separate components to integrated packages.  Themes building on each other, the Rusike diagram. And systems approach based on typologies.
Plus developing  a farnework for measuring SI.
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AD1E-8C47-4321-89EE-87E7EDD4589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CE8A-496F-4B6F-A393-3C07CCA8C17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07A7-933E-4327-8703-C79187E2E6C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B3B2-2A73-4797-9D01-B66273F2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B012-23C1-47A2-A3B0-3727F444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C556-562B-4CD1-94B1-580A73FB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0A8D-474E-4AE2-8B96-99312892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C43-C380-48EB-AC1E-6A82D0B6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DEDE-1A2E-41AB-A68E-3398C733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2B0E-93FF-401F-B8D5-F935BC23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1DF4-2228-4889-85E7-274B9961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0F1C-3BAA-4450-B759-A262928D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7DF9-12EE-4EAD-90C8-DA40471E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AA14-3A3A-4233-AF29-69FEE1FF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6C66-7491-4EFF-94DA-41C65B85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  <a:ea typeface="MS PGothic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  <a:ea typeface="MS PGothic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0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4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6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  <a:ea typeface="MS PGothic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  <a:ea typeface="MS PGothic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7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0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1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3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51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5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51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55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2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56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513B-CCB5-4D37-A8B8-BDB4239CD26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16" descr=""/>
          <p:cNvPicPr/>
          <p:nvPr/>
        </p:nvPicPr>
        <p:blipFill>
          <a:blip r:embed="rId2"/>
          <a:srcRect l="0" t="15856" r="0" b="9061"/>
          <a:stretch/>
        </p:blipFill>
        <p:spPr>
          <a:xfrm>
            <a:off x="8404200" y="5894280"/>
            <a:ext cx="663480" cy="430200"/>
          </a:xfrm>
          <a:prstGeom prst="rect">
            <a:avLst/>
          </a:prstGeom>
          <a:ln w="0">
            <a:noFill/>
          </a:ln>
        </p:spPr>
      </p:pic>
      <p:sp>
        <p:nvSpPr>
          <p:cNvPr id="646" name="TextBox 4"/>
          <p:cNvSpPr/>
          <p:nvPr/>
        </p:nvSpPr>
        <p:spPr>
          <a:xfrm>
            <a:off x="822240" y="633888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ATIONAL CONFERENCE ON CLIMATE CHANGE AND MULTI-DIMENSIONAL SUSTAINABILITY IN AFRICAN AGRI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6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1600200"/>
          </a:xfrm>
          <a:prstGeom prst="rect">
            <a:avLst/>
          </a:prstGeom>
          <a:solidFill>
            <a:srgbClr val="b3d6a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"/>
              </a:rPr>
              <a:t>Overview of Year I Planned activities and outpu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3885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Mateete Beku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Africa RISING: Going to scale in the Eastern Province of Zamb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Annual Review and Planning Me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Gill Sans"/>
              </a:rPr>
              <a:t>30-31 August,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Gill Sans"/>
              </a:rPr>
              <a:t>Lusaka, Zambia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me 2 Targets (Give for 20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228600" y="1752480"/>
          <a:ext cx="7620120" cy="4953240"/>
        </p:xfrm>
        <a:graphic>
          <a:graphicData uri="http://schemas.openxmlformats.org/drawingml/2006/table">
            <a:tbl>
              <a:tblPr/>
              <a:tblGrid>
                <a:gridCol w="2438280"/>
                <a:gridCol w="5181840"/>
              </a:tblGrid>
              <a:tr h="554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pre-basic and basic vine cuttings for further multiplication produc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36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July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e multipliers recruited and trai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984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 2015 to July 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undles of vines ready for dissemin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446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2015 to July 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eneficiaries  disagregated by ge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96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 2015 to July 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agro dealers piloted as selling points of v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984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 2015 to 31 July 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d network by gro-dealers (number serv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9536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July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echnologies under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68256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rainings, demos, flyers, sign posts, radio programs and adverts, field days and cooking d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492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varieties released or  near rel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970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echnologies developed/validat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73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enterprises developed from OFSP link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02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me 3 Targ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152280" y="1371600"/>
          <a:ext cx="8839440" cy="5514840"/>
        </p:xfrm>
        <a:graphic>
          <a:graphicData uri="http://schemas.openxmlformats.org/drawingml/2006/table">
            <a:tbl>
              <a:tblPr/>
              <a:tblGrid>
                <a:gridCol w="2438640"/>
                <a:gridCol w="685800"/>
                <a:gridCol w="4190760"/>
                <a:gridCol w="1524240"/>
              </a:tblGrid>
              <a:tr h="43092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sustainably intensify maize dominated cropping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households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eached;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% increase in maize yie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 farmers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using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3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farmers with plots under trial of this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3092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ntensify maize/ legume intercropping syste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households reached with 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 farmers using 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5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farmers with plots under trial of this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3092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reduce labour requirement for seeding to allow for timely plan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households reached with the technology;30 % reduction in labour for plan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 farmers using 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5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farmers with plots under trial of this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3092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reduce labour for women and children for weed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households reached with the technology; 30% reduction in labor for wee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 farmers using 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5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farmers with plots under trial of this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4404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ncrease land equivalen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rials =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mmendation legume combin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43092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dentify the best bet green manure specie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rials 6 + 48 CRS de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-bet green manure cover cr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</a:tr>
              <a:tr h="46152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dentify soil fertitlity benefits in agroforestry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rials =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s bet maize-agroforestry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27720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itrogen use effici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trials; 1 recommendation develop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ust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</a:tr>
              <a:tr h="64404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mprove nutrition and test MLN resistant germplasm for adapt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trials; 3 varieties rele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me 4 Targ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685800" y="1600200"/>
          <a:ext cx="8305920" cy="5005440"/>
        </p:xfrm>
        <a:graphic>
          <a:graphicData uri="http://schemas.openxmlformats.org/drawingml/2006/table">
            <a:tbl>
              <a:tblPr/>
              <a:tblGrid>
                <a:gridCol w="3429000"/>
                <a:gridCol w="665280"/>
                <a:gridCol w="4211640"/>
              </a:tblGrid>
              <a:tr h="11678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quantify the value of the aflasafe bicontrol products in enhancing farmer income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 2016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value of Aflasafe product in enhancing farmer income quantified and promoted amongst the private sector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=200 adopte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758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assess the efficacy of two aflasafe bicontrol products in Region I and III agroecological zones of Zamb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g 2016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iccy of the Aflasafe biocontrol products ZM01 and ZM02 determined in Region I and III agroecological zones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=200 treated field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758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velop a business plan for comercializing aflasafe in Zamb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ch 2016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business plan </a:t>
                      </a: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commercializing aflasafe in Zambia developed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= Pl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840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velop an ecotoxicological dossier and identify requirements for aflasafe registration and commercializ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 2017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lasafe biocontrol products, ZM01 and ZM02 registered by ZEMA =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ossier &amp; record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3024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easure impact of aflasafe application on cost and effectivness of key partners' opperations to inform buisness plan for aflasafe manufactur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C cost benefit analysis for participating private sector partners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= VC Repor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609480"/>
          </a:xfrm>
          <a:prstGeom prst="rect">
            <a:avLst/>
          </a:prstGeom>
          <a:solidFill>
            <a:srgbClr val="bac8b8"/>
          </a:solidFill>
          <a:ln w="12600">
            <a:solidFill>
              <a:srgbClr val="4b843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Action Sites in Zambia (May 201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0" name="Picture 10" descr="C:\Users\Mateete\Desktop\AAAAA\AR_Zambia_Demo_Sites_Themes.jpg"/>
          <p:cNvPicPr/>
          <p:nvPr/>
        </p:nvPicPr>
        <p:blipFill>
          <a:blip r:embed="rId1"/>
          <a:stretch/>
        </p:blipFill>
        <p:spPr>
          <a:xfrm>
            <a:off x="1600200" y="1981080"/>
            <a:ext cx="6019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2" descr=""/>
          <p:cNvPicPr/>
          <p:nvPr/>
        </p:nvPicPr>
        <p:blipFill>
          <a:blip r:embed="rId1"/>
          <a:stretch/>
        </p:blipFill>
        <p:spPr>
          <a:xfrm>
            <a:off x="1066680" y="5819760"/>
            <a:ext cx="685800" cy="75708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3" descr=""/>
          <p:cNvPicPr/>
          <p:nvPr/>
        </p:nvPicPr>
        <p:blipFill>
          <a:blip r:embed="rId2"/>
          <a:stretch/>
        </p:blipFill>
        <p:spPr>
          <a:xfrm>
            <a:off x="7243920" y="5867280"/>
            <a:ext cx="709560" cy="70956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1" descr="P:\logos\c\cimmyt\CIMMYT Logo.jpg"/>
          <p:cNvPicPr/>
          <p:nvPr/>
        </p:nvPicPr>
        <p:blipFill>
          <a:blip r:embed="rId3"/>
          <a:stretch/>
        </p:blipFill>
        <p:spPr>
          <a:xfrm>
            <a:off x="7118280" y="5057640"/>
            <a:ext cx="960480" cy="72072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2" descr="P:\logos\i\ifpri\IFPRI_Logo_Standard.jpg"/>
          <p:cNvPicPr/>
          <p:nvPr/>
        </p:nvPicPr>
        <p:blipFill>
          <a:blip r:embed="rId4"/>
          <a:stretch/>
        </p:blipFill>
        <p:spPr>
          <a:xfrm>
            <a:off x="2838600" y="5857920"/>
            <a:ext cx="390240" cy="70956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2" descr="P:\logos\i\ICRISAT\icrisat-logo.jpg"/>
          <p:cNvPicPr/>
          <p:nvPr/>
        </p:nvPicPr>
        <p:blipFill>
          <a:blip r:embed="rId5"/>
          <a:stretch/>
        </p:blipFill>
        <p:spPr>
          <a:xfrm>
            <a:off x="4510080" y="6037200"/>
            <a:ext cx="1506600" cy="56196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6" descr="AVRDC – The World Vegetable Center — avrdc.org"/>
          <p:cNvPicPr/>
          <p:nvPr/>
        </p:nvPicPr>
        <p:blipFill>
          <a:blip r:embed="rId6"/>
          <a:stretch/>
        </p:blipFill>
        <p:spPr>
          <a:xfrm>
            <a:off x="1066680" y="5148360"/>
            <a:ext cx="1967040" cy="5382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7" descr="P:\logos\i\iita\IITA_regular-sienna_with slogan (2).JPG"/>
          <p:cNvPicPr/>
          <p:nvPr/>
        </p:nvPicPr>
        <p:blipFill>
          <a:blip r:embed="rId7"/>
          <a:stretch/>
        </p:blipFill>
        <p:spPr>
          <a:xfrm>
            <a:off x="4191120" y="4444920"/>
            <a:ext cx="1123920" cy="5637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4" descr=""/>
          <p:cNvPicPr/>
          <p:nvPr/>
        </p:nvPicPr>
        <p:blipFill>
          <a:blip r:embed="rId8"/>
          <a:stretch/>
        </p:blipFill>
        <p:spPr>
          <a:xfrm>
            <a:off x="4145040" y="5191200"/>
            <a:ext cx="1569960" cy="6760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1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43131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80520" y="1592280"/>
            <a:ext cx="7620120" cy="70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600" spc="-1" strike="noStrike">
              <a:solidFill>
                <a:srgbClr val="323232"/>
              </a:solidFill>
              <a:latin typeface="Gill Sans"/>
            </a:endParaRPr>
          </a:p>
        </p:txBody>
      </p:sp>
      <p:sp>
        <p:nvSpPr>
          <p:cNvPr id="741" name="Title 1"/>
          <p:cNvSpPr/>
          <p:nvPr/>
        </p:nvSpPr>
        <p:spPr>
          <a:xfrm>
            <a:off x="700200" y="2971800"/>
            <a:ext cx="7619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Old English Text MT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228600" y="28195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10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matic 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0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matic outcomes and activ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0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matic targ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pres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Project Strategic Outco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7772400" cy="25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novations that increase productivity of farming systems and of availability and consumption of safe and nutritious food are adop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571320">
              <a:spcBef>
                <a:spcPts val="700"/>
              </a:spcBef>
              <a:buClr>
                <a:srgbClr val="ec82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stimulate the commercialization and distribution of improved legume seed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-571320">
              <a:spcBef>
                <a:spcPts val="700"/>
              </a:spcBef>
              <a:buClr>
                <a:srgbClr val="ec82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contribute to increased frequency of intake of vitamin A, especially by women and children under 5 year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-571320">
              <a:spcBef>
                <a:spcPts val="700"/>
              </a:spcBef>
              <a:buClr>
                <a:srgbClr val="ec82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sustainably intensify current maize-based low input production system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-571320">
              <a:spcBef>
                <a:spcPts val="700"/>
              </a:spcBef>
              <a:buClr>
                <a:srgbClr val="ec82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commercialize the aflasafe biocontrol products for aflatoxin mitigatio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8720" y="12189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hematic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I Outcome and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821c"/>
                </a:solidFill>
                <a:latin typeface="Calibri"/>
                <a:ea typeface="Calibri"/>
              </a:rPr>
              <a:t>Legume seed delivery systems impro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Times New Roman"/>
              </a:rPr>
              <a:t>1.1 Support for production of breeder/foundation s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2 Promotion of complimentary agronomic pract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 3 Promotion of inoculation practic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4 Conduct of efficacy tests for inocul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5 Support for the e-voucher FISP program as a roll out strategy for legumes to pilot distri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6 Develop a plan for roll out beyond pilot distri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7 Identify and support small seed companies for commercialisation of legume s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8 Build capacity of agro dealer networks for seed distribution channe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9 Facilitate seed promotional and demand creation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10 Facilitate links with lead off-take / processing companies to stimulate end market demand of gra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11 Improve ZARI's storage and irrigation facil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2 Outcome and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1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c821c"/>
                </a:solidFill>
                <a:latin typeface="Calibri"/>
                <a:ea typeface="Calibri"/>
              </a:rPr>
              <a:t>OFSP planting material systems strengthe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 Multiply and disseminate superior OFSP variet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a Support for production of breeder/foundation seeds (vine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b Recruit and train Vine multipliers and partn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c Support the multiplication of vines by vine multipli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d Facilitate the dissemination of vines to beneficiaries through promotion sales and pass-on syst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e Identify and support agro dealers to become linking points between multipliers and buyers of vin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f Build capacity of agro dealer networks for vine distribution channe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2 Improve OFSP productivity through the demonstration of improved varieties and associated production practic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3 Develop and disseminate diet diversification and nutrition messages on vitamin A, child healthy and other critical nutritional aspects for malnutrition reduc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4 Support new variety releas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.5 Conduct good agronomic practices stud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.6 Linking OFSP growers to road side and markets and other sweet potato related value chai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3 Outcome and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c821c"/>
                </a:solidFill>
                <a:latin typeface="Calibri"/>
                <a:ea typeface="Calibri"/>
              </a:rPr>
              <a:t>Low input maize/legume systems sustainably intensif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1 Scaling of maize/legume rot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2 Scaling of maize/legume intercrop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3 Scaling of direct seeding method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4 Scaling of judicious use of herbici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5 Research on doubled up legume tech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6 Research on use green manure cover cro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7 Evaluation of the COMACO agroforestry scaling model and trade-off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8 Improving manure hand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9 Testing of new QPM lines and MLN resistant varie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4 Outcome and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c821c"/>
                </a:solidFill>
                <a:latin typeface="Calibri"/>
                <a:ea typeface="Calibri"/>
              </a:rPr>
              <a:t>Efficacy of Aflasafe proven and commercialization facilit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1 Conduct national and regional trade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2 Assessment of the value of the aflasafe biocontrol produ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3 Demonstration of  aflasafe effic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4 Development of a business plan for commercialisation of aflasaf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5 Registration of aflasafe produ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6 Conduct of the cost-benefit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I Targe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152280" y="2057400"/>
          <a:ext cx="4191120" cy="4049640"/>
        </p:xfrm>
        <a:graphic>
          <a:graphicData uri="http://schemas.openxmlformats.org/drawingml/2006/table">
            <a:tbl>
              <a:tblPr/>
              <a:tblGrid>
                <a:gridCol w="990720"/>
                <a:gridCol w="1066680"/>
                <a:gridCol w="1109880"/>
                <a:gridCol w="102384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ed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ear 1: 2015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a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(t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81240">
                <a:tc rowSpan="4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yb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e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 rowSpan="4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w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e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4572000" y="1371600"/>
          <a:ext cx="4343400" cy="5059440"/>
        </p:xfrm>
        <a:graphic>
          <a:graphicData uri="http://schemas.openxmlformats.org/drawingml/2006/table">
            <a:tbl>
              <a:tblPr/>
              <a:tblGrid>
                <a:gridCol w="1862280"/>
                <a:gridCol w="877680"/>
                <a:gridCol w="1603440"/>
              </a:tblGrid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eder seed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5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eased varie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a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(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V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V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565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ly released varie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V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V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SHAN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MUSAN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ZITA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PA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geon 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7e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7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EAP 01415/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7e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08:14:19Z</dcterms:created>
  <dc:creator>IZELEDON</dc:creator>
  <dc:description/>
  <dc:language>en-US</dc:language>
  <cp:lastModifiedBy>Odhong, Jonathan (IITA)</cp:lastModifiedBy>
  <cp:lastPrinted>2016-08-15T09:21:41Z</cp:lastPrinted>
  <dcterms:modified xsi:type="dcterms:W3CDTF">2016-09-08T14:56:14Z</dcterms:modified>
  <cp:revision>216</cp:revision>
  <dc:subject/>
  <dc:title>Slide 1</dc:title>
</cp:coreProperties>
</file>